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237-DEB8-4EF8-B375-BF93A620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059-3BB2-4BB9-B2CB-B02B168A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9CF-EF51-447F-B9EC-4B966337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B38-99B3-4F78-891D-340AFC4D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AD6D-259F-4947-80EA-0F682BEB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A757-3D0D-48F1-9B11-E4714BD7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CB72-14BC-47FD-BA87-143C66CB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68B9-9175-4153-9171-636DCA34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36EB-27E5-4AF8-B06A-67F65BA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A1D4-8AFD-4235-9158-BB2F765C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7CE3-D204-45FA-AE5F-83BE18D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BC7-25DB-4FCE-B1E8-7C79A044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CFE4-95B8-43F6-9F97-F79C89B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DC5-2A5B-4AD7-83F0-AC6E847D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7E83-8528-4B0C-83D1-6BBDB169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0876-9380-4578-84EB-22AD61E3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DE81-A79F-4B93-9E08-D146F6AD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807F-6142-46E2-918C-343C72FF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20E4-60F2-47C1-B140-E980E5E3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8BE60-220F-4544-8A96-B40E3D0D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B289-258B-4511-9D50-8B06851A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8CB4-F5C1-4DE1-BC85-96C4EF9F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824-73DE-412E-A1A6-9531A5F6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3982-1E1A-4718-8C4E-70CECE3E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ED86-7513-49E1-8B0E-7C4232A7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7B40-EBB7-4137-AB18-1BE4AF23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F521-AC2C-46ED-A846-13BB129F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96AB-67D8-49C3-AA0E-1DB10133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93CD-2391-4FB5-9883-B87ADD82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2897A-DE8E-459B-84BC-CFA182C5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F6386-1743-4731-9C4D-2C9C3E83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4866-6314-4B56-9144-494FD527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DE3D-6A80-4A3E-82EF-2D976F4A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999-BA5B-46C2-9E2A-EC2D0DCC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79EA-221F-44B9-924E-8825BE31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1D1B2-A764-4210-837A-68D166D3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EB09E-3810-44D7-817E-CBE1089F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C7F2-4586-434C-BE0A-33315E10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7F55-A126-4F18-BC6E-C5900578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BF3B-86D9-4ED5-90B4-60F55C8C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FAA0C-21F5-452B-8804-7130EC88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57E4-E4E9-4D1E-95FD-039A45B2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0DD7-9F97-4A18-881D-41916C69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373-7D8C-4837-A9CE-69DBF10B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FF9-63EA-45CD-A173-95A85481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AEA-3B7F-41B7-82F7-13784FD3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C4E-4F2F-42E8-934D-22B3F9F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67D-5209-4F62-9B9F-A6E8FD48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0B40-374E-46A0-8254-902F44843C4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1291-0E59-435F-A372-8D1808A0066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C9F6-B059-459C-9AA8-3CA6087A7E7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0FB5-0C97-49E6-91B9-F4AA6B95F0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8520"/>
            <a:ext cx="8229600" cy="1157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. Approaches to Evaluatio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6 clas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3 projec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1 group present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Review of Data/Progra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3 clas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ass Activiti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 Presenta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2 clas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valuation of a School Progra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. Field Experie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35 hour field experi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pproach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5: Expertise &amp; Consumer-Oriented*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6: Program-Orie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7: Decision-Oriented*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8: Participant-Orie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9: Cultural Competence &amp; Capacity Building*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*(project associated chapt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of Data/Progr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Educational Data– Review of School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ategoriz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Demographics, Student Learning, Percep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Local – Critique of Local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, SAT, PSSA, Curriculum-ba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ritiqu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strengths and weakn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 Global – Reflect on Global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Reflec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n the information and make observations about the nation, state, and distri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valuation Project &amp; Presen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Guidelines in Ch. 11-13 and 1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th your mento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 a recently adopted program or initia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cate a good evaluation report that has been comple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view (at least 3) intended us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 their reaction to th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y do not have the information secure it for them prior to the intervie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ject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summary your written document shoul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the eval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your personal critique of the document and the methodolog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the strengths and weaknesses of the pro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your recommendation would be if you were the administrator responsible for reviewing the pro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ject Presentation (continue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sentations of Evaluation Proje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20 minu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 minutes for the pres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udience as stakeholder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 minutes for Q&amp;A and Feedback from the gro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22:03:02Z</dcterms:created>
  <dc:creator>rschultz</dc:creator>
  <dc:description/>
  <dc:language>en-US</dc:language>
  <cp:lastModifiedBy>rschultz</cp:lastModifiedBy>
  <dcterms:modified xsi:type="dcterms:W3CDTF">2011-02-04T00:09:53Z</dcterms:modified>
  <cp:revision>4</cp:revision>
  <dc:subject/>
  <dc:title>Course Overview</dc:title>
</cp:coreProperties>
</file>